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04A-99A7-42C1-9A25-49D7139D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D60-4802-4C74-8154-CB2C6962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880-5994-4FF4-BC8D-F3F956E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392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496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1324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3392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5496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7DC-FE79-4D2E-8F1A-23EF8EB4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8C49-D55B-4B0C-ACD1-724FBA8A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F3FC-B5EF-44C2-9FDB-E43062E4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6E3-46E1-465B-80BF-62FA45F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8483-A536-4E10-9B42-2092445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380-2FE9-4D2A-A47C-310D1F7B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4520" y="6540120"/>
            <a:ext cx="15843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EF34-95BA-4EF4-A949-467FB4AF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267-8A15-4560-9497-7257E0A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739-2ED2-44F5-ABB4-6D033AD2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40A-9EB6-43E4-85F0-6D7F956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0C4A-DED2-45E9-BB7F-7697066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199A-AB53-41EE-98A6-E28C9A79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63F9-F16F-4F14-BF0E-3BAD104E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392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4960" y="141300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1324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3392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54960" y="3874680"/>
            <a:ext cx="19242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2DA0-6B4E-4EF6-B414-B26C40C2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9F5-2FF9-4F74-8095-28A73D41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823-B065-4380-A3FE-3EAD1F2D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1F7-C5F4-48CB-B0D3-D7280478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4520" y="6540120"/>
            <a:ext cx="15843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181-C6F1-4A9D-96BA-EF5C1C81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EF8-38FD-4D17-956F-8201D2C4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5760" y="387468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804-B954-4A62-BD7C-4B3B962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1324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5760" y="1413000"/>
            <a:ext cx="2916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13240" y="3874680"/>
            <a:ext cx="5976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D8F-D096-451B-B07F-3B85DA1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324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87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49EB-A11C-445F-8BC4-3A06B4D2C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4520" y="549000"/>
            <a:ext cx="158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13240" y="1413000"/>
            <a:ext cx="59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154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96880" y="624492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83288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C9D6-91F0-4300-BCFE-0DDB5B4CB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44160" y="1196640"/>
            <a:ext cx="9288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менская средняя общеобразовательная школа №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пект урока русского языка в 6 класс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квы о и а в корне -кос- – -кас-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русского языка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булатова Д.С.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2019-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3" name="Picture 8" descr="perosmall"/>
          <p:cNvPicPr/>
          <p:nvPr/>
        </p:nvPicPr>
        <p:blipFill>
          <a:blip r:embed="rId1"/>
          <a:stretch/>
        </p:blipFill>
        <p:spPr>
          <a:xfrm>
            <a:off x="704880" y="4292640"/>
            <a:ext cx="23749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31800" y="1413000"/>
            <a:ext cx="8858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накомить учащихся с выбором букв о – а в корнях -кос- - -кас-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формировать навык правильной постановки чередующихся гласных о-а в корнях –кос- - -кас-;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орфографическую зоркость;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лексический разбор слов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80880" y="2276280"/>
            <a:ext cx="7561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969696"/>
                </a:solidFill>
                <a:latin typeface="Times New Roman"/>
              </a:rPr>
              <a:t>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5400" spc="-1" strike="noStrike">
                <a:solidFill>
                  <a:srgbClr val="969696"/>
                </a:solidFill>
                <a:latin typeface="Times New Roman"/>
              </a:rPr>
              <a:t>снуться / 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5400" spc="-1" strike="noStrike">
                <a:solidFill>
                  <a:srgbClr val="969696"/>
                </a:solidFill>
                <a:latin typeface="Times New Roman"/>
              </a:rPr>
              <a:t>саться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86" name="AutoShape 7"/>
          <p:cNvCxnSpPr>
            <a:stCxn id="85" idx="1"/>
            <a:endCxn id="85" idx="1"/>
          </p:cNvCxnSpPr>
          <p:nvPr/>
        </p:nvCxnSpPr>
        <p:spPr>
          <a:xfrm>
            <a:off x="1280880" y="3357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Line 15"/>
          <p:cNvSpPr/>
          <p:nvPr/>
        </p:nvSpPr>
        <p:spPr>
          <a:xfrm>
            <a:off x="6032520" y="314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221616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682452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75324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22"/>
          <p:cNvSpPr/>
          <p:nvPr/>
        </p:nvSpPr>
        <p:spPr>
          <a:xfrm flipV="1" rot="15484800">
            <a:off x="2124360" y="1958760"/>
            <a:ext cx="582840" cy="1212840"/>
          </a:xfrm>
          <a:custGeom>
            <a:avLst/>
            <a:gdLst/>
            <a:ahLst/>
            <a:rect l="l" t="t" r="r" b="b"/>
            <a:pathLst>
              <a:path fill="none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</a:path>
              <a:path stroke="0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  <a:lnTo>
                  <a:pt x="0" y="21456"/>
                </a:lnTo>
                <a:lnTo>
                  <a:pt x="24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23"/>
          <p:cNvSpPr/>
          <p:nvPr/>
        </p:nvSpPr>
        <p:spPr>
          <a:xfrm flipV="1" rot="15484800">
            <a:off x="5915880" y="1961640"/>
            <a:ext cx="582480" cy="1212480"/>
          </a:xfrm>
          <a:custGeom>
            <a:avLst/>
            <a:gdLst/>
            <a:ahLst/>
            <a:rect l="l" t="t" r="r" b="b"/>
            <a:pathLst>
              <a:path fill="none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</a:path>
              <a:path stroke="0" w="21600" h="39077">
                <a:moveTo>
                  <a:pt x="2492" y="0"/>
                </a:moveTo>
                <a:cubicBezTo>
                  <a:pt x="13384" y="1265"/>
                  <a:pt x="21600" y="10491"/>
                  <a:pt x="21600" y="21456"/>
                </a:cubicBezTo>
                <a:cubicBezTo>
                  <a:pt x="21600" y="28458"/>
                  <a:pt x="18205" y="-30509"/>
                  <a:pt x="12492" y="-26459"/>
                </a:cubicBezTo>
                <a:lnTo>
                  <a:pt x="0" y="21456"/>
                </a:lnTo>
                <a:lnTo>
                  <a:pt x="24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6753240" y="227664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7040520" y="227664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9" descr="38"/>
          <p:cNvPicPr/>
          <p:nvPr/>
        </p:nvPicPr>
        <p:blipFill>
          <a:blip r:embed="rId1"/>
          <a:stretch/>
        </p:blipFill>
        <p:spPr>
          <a:xfrm>
            <a:off x="3008160" y="386064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052280"/>
            <a:ext cx="1584360" cy="5040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Times New Roman"/>
              </a:rPr>
              <a:t>Правило № 26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0520" y="1628280"/>
            <a:ext cx="712944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корне как-кос в безударном положении пишется буква а, если после корня стоит суффикс –а-, 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буква о, если этого суффикса 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15800" y="1413000"/>
            <a:ext cx="9074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Спишите, поставьте нужную букву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м.риться с другом, к.сить траву, пол.скать котёнка,  соб.рать коллекцию, ум.рать от жары, распол.гаться на ночлег, р.сти на полянке, у.кая доро.ка, к.саться мяча рукой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9" name="Picture 4" descr="49"/>
          <p:cNvPicPr/>
          <p:nvPr/>
        </p:nvPicPr>
        <p:blipFill>
          <a:blip r:embed="rId1"/>
          <a:stretch/>
        </p:blipFill>
        <p:spPr>
          <a:xfrm>
            <a:off x="272880" y="476280"/>
            <a:ext cx="1209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16160" y="1268280"/>
            <a:ext cx="734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69696"/>
                </a:solidFill>
                <a:latin typeface="Times New Roman"/>
              </a:rPr>
              <a:t>Проверим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По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риться с другом, к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ить траву, п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кать котёнка,  соб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рать коллекцию, у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рать от жары, расп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гаться на ночлег, р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ти на полянке, у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кая доро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ж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ка, к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969696"/>
                </a:solidFill>
                <a:latin typeface="Times New Roman"/>
              </a:rPr>
              <a:t>саться мяча рукой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1" name="Picture 5" descr="Рисунок16"/>
          <p:cNvPicPr/>
          <p:nvPr/>
        </p:nvPicPr>
        <p:blipFill>
          <a:blip r:embed="rId1"/>
          <a:stretch/>
        </p:blipFill>
        <p:spPr>
          <a:xfrm>
            <a:off x="200160" y="2205000"/>
            <a:ext cx="2420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15800" y="1413000"/>
            <a:ext cx="9074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 вы понимаете выражение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Война коснулась железным пальцем»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520" y="1125000"/>
            <a:ext cx="863640" cy="49676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5240" y="1267920"/>
            <a:ext cx="705816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 109, параграф 21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сочинение-миниатюру на тему «На озере» с использованием слов и словосочетании: коснулось воды, касается берегов, растет, водоросли, мелкие растеньица, ряска, заросшие камышом, расстилается по поверхности и др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5" name="Picture 4" descr="17"/>
          <p:cNvPicPr/>
          <p:nvPr/>
        </p:nvPicPr>
        <p:blipFill>
          <a:blip r:embed="rId3"/>
          <a:stretch/>
        </p:blipFill>
        <p:spPr>
          <a:xfrm>
            <a:off x="7905600" y="4869000"/>
            <a:ext cx="1654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4880" y="1412640"/>
            <a:ext cx="77058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69696"/>
                </a:solidFill>
                <a:latin typeface="Times New Roman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сем спасибо за урок. Можете быть свободны</a:t>
            </a:r>
            <a:r>
              <a:rPr b="0" lang="ru-RU" sz="5400" spc="-1" strike="noStrike">
                <a:solidFill>
                  <a:srgbClr val="969696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7" name="Picture 11" descr="http://luzan.ucoz.ru/animes/zvonok.gif"/>
          <p:cNvPicPr/>
          <p:nvPr/>
        </p:nvPicPr>
        <p:blipFill>
          <a:blip r:embed="rId1"/>
          <a:stretch/>
        </p:blipFill>
        <p:spPr>
          <a:xfrm>
            <a:off x="3008160" y="318600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1:23:07Z</dcterms:created>
  <dc:creator/>
  <dc:description/>
  <cp:keywords/>
  <dc:language>en-US</dc:language>
  <cp:lastModifiedBy>школа</cp:lastModifiedBy>
  <dcterms:modified xsi:type="dcterms:W3CDTF">2019-11-19T13:28:4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21049</vt:lpwstr>
  </property>
</Properties>
</file>